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377902"/>
        <c:axId val="47424742"/>
      </c:barChart>
      <c:catAx>
        <c:axId val="30377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24742"/>
        <c:crosses val="autoZero"/>
        <c:auto val="1"/>
        <c:lblAlgn val="ctr"/>
        <c:lblOffset val="100"/>
        <c:noMultiLvlLbl val="0"/>
      </c:catAx>
      <c:valAx>
        <c:axId val="47424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77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DCA-2FDC-4808-B98D-50810DA3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06A-6497-48EE-9A42-56FEEA3B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5AC-5017-42C4-BC2B-A78DCCDA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037-7E6A-457C-822A-D9D44268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05C-EA46-4793-84F0-CA36848C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6809-65C2-4AFD-82E6-CD4BC8A7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11C-CB72-4EB9-B615-7B563ADD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E9E-510A-4442-99FB-B2EC6CA0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F9E-A15D-4561-9550-1211325C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00A-7C18-4DEC-9439-7A34E71F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9D9-2A1E-4BBC-8205-8DFAD799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9A5-2AC5-41B4-947D-D99EFABB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EB432-7F1C-498B-9827-84E0B0E5C4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