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17454"/>
        <c:axId val="92716101"/>
      </c:barChart>
      <c:catAx>
        <c:axId val="62017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16101"/>
        <c:crosses val="autoZero"/>
        <c:auto val="1"/>
        <c:lblAlgn val="ctr"/>
        <c:lblOffset val="100"/>
        <c:noMultiLvlLbl val="0"/>
      </c:catAx>
      <c:valAx>
        <c:axId val="92716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17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6F9-0DF2-44F2-AD82-4E0A1A52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0E8-4A75-49F7-8724-3972FE0A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ED8-B127-4C7C-9C5D-17190861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82F-72F3-4959-B5CA-4DF9F0EE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C7B-92D6-4360-A22F-03B5596B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198-D73D-4353-AE3C-F39C6A02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011-D939-46BB-9B58-8427BC5F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C06B-1BF6-4EF8-998E-13316E06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F5C-B989-4452-8410-BF4871EA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4C8-AED9-4771-9EC1-EBB89A43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E2A-A374-4B2E-9B96-55CF9AC8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8C7-60DC-403E-853B-704C39F2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D5BA8-5581-4EA9-9B9D-AB499356B3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