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782326"/>
        <c:axId val="90694448"/>
      </c:barChart>
      <c:catAx>
        <c:axId val="787823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694448"/>
        <c:crosses val="autoZero"/>
        <c:auto val="1"/>
        <c:lblAlgn val="ctr"/>
        <c:lblOffset val="100"/>
        <c:noMultiLvlLbl val="0"/>
      </c:catAx>
      <c:valAx>
        <c:axId val="906944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7823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B99A-A4B9-4477-9BFA-963ECF70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BB59-35E3-4F24-9759-8C15E1A2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988C-6742-4DCC-B853-CAD687179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B142-4C3B-44A3-8C87-6FE8A8285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779E-51EE-477A-9998-4018159C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89C2-AF1D-4A22-AF18-4EBB4273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F48B-67E0-4069-B7BE-1827CE71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0B20-FF33-47CC-899C-B9358C32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1CCF-E7A1-4262-A9FD-82C2D743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2B55-F85E-4822-986D-A09013D5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0C49-28F8-4D5B-9671-4ADBB461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96B8-030C-4974-B4D5-9DBB11C6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BFF65-4CF6-48AF-8375-0DE621E68A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