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15100"/>
        <c:axId val="38590736"/>
      </c:barChart>
      <c:catAx>
        <c:axId val="585151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90736"/>
        <c:crosses val="autoZero"/>
        <c:auto val="1"/>
        <c:lblAlgn val="ctr"/>
        <c:lblOffset val="100"/>
        <c:noMultiLvlLbl val="0"/>
      </c:catAx>
      <c:valAx>
        <c:axId val="385907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151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4EF1-5AEB-4BB1-8D12-C3C45D7F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B5BA-6C02-47EC-B00C-65E5B7EB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2B6-0E7A-466E-96F5-DCACE4BC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7BB6-EC19-43E9-9181-1CF73352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878-1D6F-4E9A-AD9F-5CAEBEBE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73F-B249-4565-9257-847FDB8E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706-A095-4008-A66C-5EFB5ACB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66F1-11D2-493E-90CD-6DF431A0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456E-BCE2-445D-AC76-F1C999D7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6E46-9703-4E04-A66A-4A9B0D68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C14-5199-4BF6-BE18-892E86EB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7A1-14FD-400F-B109-7EC269FD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B159C-EF16-44C7-9254-AF33D070AF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