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6664"/>
        <c:axId val="89463671"/>
      </c:barChart>
      <c:catAx>
        <c:axId val="68356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63671"/>
        <c:crosses val="autoZero"/>
        <c:auto val="1"/>
        <c:lblAlgn val="ctr"/>
        <c:lblOffset val="100"/>
        <c:noMultiLvlLbl val="0"/>
      </c:catAx>
      <c:valAx>
        <c:axId val="89463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6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5AD-9761-465D-AD01-0E6DFA95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E95-D83B-4F70-BFF7-A76EFD3C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AD4-39D0-4819-88ED-C037D83D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EB3-294F-4C09-A5A9-75FC23A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A9A-ABF9-48B0-8810-467A8504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A6B-8097-4353-85A3-4B52FFA1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83D-EA94-498B-A154-F2C7549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A7E-9A2A-4EEA-9DC7-604ACB9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3A8-3A2D-4901-B9EF-46F16F90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503-7631-45F9-9BE1-EB3501E7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E2D-8DDE-40CE-96C8-1B1C4186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CAF-67A9-4024-8DEB-D27973C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419B1-727C-4683-8301-5A7C9EAEE3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