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03318"/>
        <c:axId val="76502988"/>
      </c:barChart>
      <c:catAx>
        <c:axId val="98603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02988"/>
        <c:crosses val="autoZero"/>
        <c:auto val="1"/>
        <c:lblAlgn val="ctr"/>
        <c:lblOffset val="100"/>
        <c:noMultiLvlLbl val="0"/>
      </c:catAx>
      <c:valAx>
        <c:axId val="76502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03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E2B-8ED4-4E45-B1C5-F419D716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93C-8F96-4A9C-B024-E2C1EAE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A6B-AB00-49A3-A6F3-95396D43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066-BA0B-48B1-A4CA-51C98756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5D7-67DE-4E8F-A8A7-05C9912B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7E4-9BD4-491A-867F-7BA8637F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CCB-8821-4B66-992F-48E1D25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FC3-8245-4A46-90EE-76ADC3D9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1BE-8811-42AC-8EC3-4B5493E4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574-568F-48EE-827C-21F8EB7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804-21D9-44FE-B974-2BAFCE0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7A5-A4AA-4AEC-A3BD-3D8C7121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A9EB9-EF2E-48A7-9E6E-08BB19644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