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43135"/>
        <c:axId val="92717538"/>
      </c:barChart>
      <c:catAx>
        <c:axId val="30543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17538"/>
        <c:crosses val="autoZero"/>
        <c:auto val="1"/>
        <c:lblAlgn val="ctr"/>
        <c:lblOffset val="100"/>
        <c:noMultiLvlLbl val="0"/>
      </c:catAx>
      <c:valAx>
        <c:axId val="92717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3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43F-83C4-43AC-AE6C-8BF06A9A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D15-2BF2-4555-AF68-EF76EF53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9A7-650A-46A5-AF44-A0994D20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B09-0BED-4023-B724-CB85623C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BAF-7ECB-4F0C-83B8-4FCF48C4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48F-6090-44E9-B3A3-7C3392BD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A63-94A3-4F41-9C95-8868B1A4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BA1-6A8A-4CCA-9891-D9EF8121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D57-DCB9-447C-A72C-A0AD757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9A1-6E13-4EC1-87BE-7C5C6FA4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070-FCE8-47BC-B14B-D1C6390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88B-01EA-4D3E-A617-469303C0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EEA37-4013-4AC4-8B36-28A6BBBA55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