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57083"/>
        <c:axId val="86663344"/>
      </c:barChart>
      <c:catAx>
        <c:axId val="33457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63344"/>
        <c:crosses val="autoZero"/>
        <c:auto val="1"/>
        <c:lblAlgn val="ctr"/>
        <c:lblOffset val="100"/>
        <c:noMultiLvlLbl val="0"/>
      </c:catAx>
      <c:valAx>
        <c:axId val="86663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7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D4D-E28B-4312-B528-D086715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E38-F90A-4698-81C9-B7E21435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F06-C369-493C-BB59-1FAE78ED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111-83FC-438C-AF17-A2C49D92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A82-E6BB-4D3F-A5D7-057A6B3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CDA-BBEC-4226-8476-E90AB79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437-2B31-4A96-8CDC-32EF6B80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AB8-D3DB-4B33-8CD5-1CD1D85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F9C-3EB6-4B7A-85D4-7831A6EC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BD8-3F38-460D-B630-750820AE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AFF-765B-4C40-96ED-F9793AD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812-C130-4EA7-97FD-9512964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85AA1-C044-4627-96E1-42C6AA0C4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