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83682"/>
        <c:axId val="48767588"/>
      </c:barChart>
      <c:catAx>
        <c:axId val="22183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7588"/>
        <c:crosses val="autoZero"/>
        <c:auto val="1"/>
        <c:lblAlgn val="ctr"/>
        <c:lblOffset val="100"/>
        <c:noMultiLvlLbl val="0"/>
      </c:catAx>
      <c:valAx>
        <c:axId val="4876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83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4B2-BD24-4D9B-BD35-D065822D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D49-E548-46DF-A08A-65A9FA24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179-E56A-4AF6-9971-CC1C86C6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E8F-ACB6-4BC9-93CD-5AC6F15E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E82-F58B-461D-B094-5604FBF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06F-E7CD-4420-A579-682FBC8F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4FB-E524-4F8D-BEEC-AD95F5B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437-4A4B-4BD8-BC4D-4265A797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E48-884B-4DA4-9B31-3E60F36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336-B8D5-4313-BCDF-846CA9D8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B1E-4E38-49FF-828B-9DD08CE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15F-AA3E-4F62-89C0-615DAB8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58E8E-1859-4C3B-ACD3-AACFF4A472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