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50775"/>
        <c:axId val="73490534"/>
      </c:barChart>
      <c:catAx>
        <c:axId val="48850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90534"/>
        <c:crosses val="autoZero"/>
        <c:auto val="1"/>
        <c:lblAlgn val="ctr"/>
        <c:lblOffset val="100"/>
        <c:noMultiLvlLbl val="0"/>
      </c:catAx>
      <c:valAx>
        <c:axId val="73490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50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88F-DC23-42D3-8459-CDF52DB3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1D4-9D21-448D-9FA2-2D2DA69F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5E4-3004-4531-9B42-ACE20C2E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862-4429-4838-B8C7-42496BE5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C32-F933-421D-9327-AA296E21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9C9-1FD9-421D-8104-23F00A8F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43D-4531-4953-820C-6E980EA5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2B6-1A4D-43F3-B38E-50D18394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4E1-C007-46CC-85FF-BF40E547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34B-EA09-4C16-AB24-F0E521DD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067-7E54-4D2F-A0DF-989E9A4E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60F-833B-4733-B70D-25A514C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D67CF-2869-426A-8F22-ED9DA8ACF0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