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80661"/>
        <c:axId val="35607592"/>
      </c:barChart>
      <c:catAx>
        <c:axId val="47180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07592"/>
        <c:crosses val="autoZero"/>
        <c:auto val="1"/>
        <c:lblAlgn val="ctr"/>
        <c:lblOffset val="100"/>
        <c:noMultiLvlLbl val="0"/>
      </c:catAx>
      <c:valAx>
        <c:axId val="35607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80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402-DB52-4200-9214-1221514C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F6C-CD2B-4C65-A91A-9F7FCE62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075-6D4B-4501-91DF-5BDF2D7A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E66-1DC1-4503-AE60-69B0822E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216-7F1A-4726-9AF3-4BE22F9E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3C0-9E45-4FB4-80B6-95AC1792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60B-9209-40CE-BFBC-9A534523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93D-AE20-4D3A-B2C1-0ABF7380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162-52EB-44B5-8352-1488566D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2D4-3A63-43C5-B89F-AFED060A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7A2-A399-4850-844A-39A4434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DA3-6D40-47B0-B7B9-A9D115EF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009E8-2BB3-48C4-A4F7-20FFD788D5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