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56868"/>
        <c:axId val="85517347"/>
      </c:barChart>
      <c:catAx>
        <c:axId val="55956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17347"/>
        <c:crosses val="autoZero"/>
        <c:auto val="1"/>
        <c:lblAlgn val="ctr"/>
        <c:lblOffset val="100"/>
        <c:noMultiLvlLbl val="0"/>
      </c:catAx>
      <c:valAx>
        <c:axId val="85517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56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EEB-A938-48EF-A4F8-1768132A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8A8-1241-4735-87BD-0061CAA5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AD5-710C-44BB-9475-CA80A8F0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F14-E258-4AD8-9700-89E0DC14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1F7-9170-4E94-8092-5E6DBFE6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B08-B8A1-4029-88FB-9E9B4A6B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2EB-2CD2-4A66-97FF-CC7C86E9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4D6-A3B0-4693-AA55-1EE2B43A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F6F-8BC0-4EE3-9EDC-393BF692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C82-9372-4397-AFBF-76410D11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483-67A8-44A9-81C1-BC7953DE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FF1-A09E-4384-B82E-220BD556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06492-63B8-447C-9218-AF848617A6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