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731441"/>
        <c:axId val="78268957"/>
      </c:barChart>
      <c:catAx>
        <c:axId val="467314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268957"/>
        <c:crosses val="autoZero"/>
        <c:auto val="1"/>
        <c:lblAlgn val="ctr"/>
        <c:lblOffset val="100"/>
        <c:noMultiLvlLbl val="0"/>
      </c:catAx>
      <c:valAx>
        <c:axId val="782689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7314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D994-7DB0-44A6-B49D-A8AE68C0B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4495-9FE5-48E8-8B97-924EA3023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1D03-328C-4DD5-A414-A23557E46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759-B049-4DDA-8597-D21C5D5A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389B-FE3B-4CE4-847E-FF09A316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2A91-2C3A-4D05-9F2B-7A2B0292E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F30B-01A6-4755-B004-28D7B00CD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AB47-C82E-45BF-AD09-D47736A5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EA69-64F3-4454-B108-427D9DF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9BC3-7905-4989-AD4D-1C42AD28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97E6-A87E-4A18-96DE-688EBBF89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926B-A2AA-425F-AEF9-80BA3DFA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BE27A3-A19F-42FF-88BF-E9EB0D158CD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