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17133"/>
        <c:axId val="61273869"/>
      </c:barChart>
      <c:catAx>
        <c:axId val="72617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73869"/>
        <c:crosses val="autoZero"/>
        <c:auto val="1"/>
        <c:lblAlgn val="ctr"/>
        <c:lblOffset val="100"/>
        <c:noMultiLvlLbl val="0"/>
      </c:catAx>
      <c:valAx>
        <c:axId val="61273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17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DD8-21EE-4E2D-A072-3FE67BC1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F12-F197-49F4-8B6A-447E426B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E87-5C67-4850-98AB-31D47504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8C0-2908-4198-B97A-ED340D14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23BA-792C-4619-A55F-14FE7CA6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13C-7F07-494A-B104-4BDE356A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1E7-0CC3-401C-8ED9-813F1E01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990-34AB-4251-AA1D-92FC948A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BC5-4E0E-4CEA-9FEC-B9F01187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272-DB7D-481A-B5DD-853BC938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E398-5739-43FD-A81B-C80AF1D3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B40-7D76-4C96-A54A-C0E6C366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F7145-3757-4273-A33D-D6AD165DAB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