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88314"/>
        <c:axId val="69351071"/>
      </c:barChart>
      <c:catAx>
        <c:axId val="11588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1071"/>
        <c:crosses val="autoZero"/>
        <c:auto val="1"/>
        <c:lblAlgn val="ctr"/>
        <c:lblOffset val="100"/>
        <c:noMultiLvlLbl val="0"/>
      </c:catAx>
      <c:valAx>
        <c:axId val="69351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8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9C8-4C8A-4568-9044-DE325486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EEB-65F9-43F2-8B87-407529EA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600-FA76-48FE-8CD6-94A5A71C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1D9-C7E3-4DB4-8935-006C2735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818-888D-4DCE-BD6D-6845FA1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94A-F56F-46E1-9B4C-A479D12E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691-65A7-4AC7-8099-3A4E231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2DF-10BE-4871-8B4E-C64E616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2A4-13E5-4047-AC26-0BF857B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EAE-AC6D-402E-B29D-8CD19CFD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536-BAAC-414A-B09E-FC9F404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F14-3DF8-4C33-875B-EE136B6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EDF3-C159-4C73-9A16-454ED94A7A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