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441308"/>
        <c:axId val="38334414"/>
      </c:barChart>
      <c:catAx>
        <c:axId val="544413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34414"/>
        <c:crosses val="autoZero"/>
        <c:auto val="1"/>
        <c:lblAlgn val="ctr"/>
        <c:lblOffset val="100"/>
        <c:noMultiLvlLbl val="0"/>
      </c:catAx>
      <c:valAx>
        <c:axId val="383344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413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E0EB-2E11-4EF5-B04F-2656DC62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E6B1-3D26-4765-98EF-685AD721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3064-3E23-45A8-893C-BD9DEBA8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3CF7-F7E2-4529-BFE2-FD5F60FA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F306-6094-4AF1-A0C0-DC641CD8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58A-79C1-4D6C-873A-239EEFF2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916B-FD49-4282-BBE1-78E549AD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F29A-9470-4002-BC01-CCF750BA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5554-200E-4162-9526-2B6278E1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FE52-211B-4414-AF7C-1E125BF3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FEC4-1EB3-42EF-9B40-6F8C5C82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5762-656B-4AA3-882C-3FD2D2C7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FCAF0-6AC9-4C54-B341-D04154722B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