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45189"/>
        <c:axId val="86551469"/>
      </c:barChart>
      <c:catAx>
        <c:axId val="18545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51469"/>
        <c:crosses val="autoZero"/>
        <c:auto val="1"/>
        <c:lblAlgn val="ctr"/>
        <c:lblOffset val="100"/>
        <c:noMultiLvlLbl val="0"/>
      </c:catAx>
      <c:valAx>
        <c:axId val="86551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45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4D0-7AAF-4CC5-8C2E-DCD7E1F1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DAA-F2B8-4488-AD68-4EA34602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C21-937B-49CF-8E25-5317F344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2DB-FBB0-43CA-BAA5-B58C33C4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F3C-0610-48B7-90CD-35F08D87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8E3-BC42-46FD-8CE2-37A7DFBD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850-D329-416C-B55D-98BFA116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239-BA30-44E9-B770-55EBB89C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CA2-F00D-40FE-8231-9884D5A3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8D2-AB5D-4574-9634-D38AE215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706-CC7E-4F1E-B34A-07DCCAF9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F6C-3103-4831-88D0-D1E78087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89951-72D4-463B-A120-AB4071C606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