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3586"/>
        <c:axId val="20275004"/>
      </c:barChart>
      <c:catAx>
        <c:axId val="26883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75004"/>
        <c:crosses val="autoZero"/>
        <c:auto val="1"/>
        <c:lblAlgn val="ctr"/>
        <c:lblOffset val="100"/>
        <c:noMultiLvlLbl val="0"/>
      </c:catAx>
      <c:valAx>
        <c:axId val="20275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3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C07-0D07-44BE-85C2-D86BEBEE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D68-3259-4E29-A921-C8FD2FC4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899-3167-46F4-8E88-841BBD27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10A-CD70-4BF3-992B-E04AE2A6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4AA-3A41-48B7-B909-8D61143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73D-2A13-44CE-91EF-F7DB0EA8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AF6-0390-4CE2-8861-2CC667D6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DDE-07B6-43E7-BFBE-D79581E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205-7A02-430B-84B8-813FC15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C95-4A84-466D-8D49-4B79727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ACC-EC63-4CEA-A7D0-84915CF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910-2AF3-4553-B997-7A1E468E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2BE91-3C94-4554-93FC-3FA59C2D6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