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68056"/>
        <c:axId val="38329108"/>
      </c:barChart>
      <c:catAx>
        <c:axId val="83268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29108"/>
        <c:crosses val="autoZero"/>
        <c:auto val="1"/>
        <c:lblAlgn val="ctr"/>
        <c:lblOffset val="100"/>
        <c:noMultiLvlLbl val="0"/>
      </c:catAx>
      <c:valAx>
        <c:axId val="38329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68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E8B-4F56-4739-BD90-A026F75E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818-63B8-4F75-8C8E-6388DB05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A27-E799-41BF-8896-F74234AF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A05-3C5A-48AC-9B02-2742C37E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1D6-CDF7-45F6-B53E-1511D98D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D31-83DE-48E3-B805-5787F808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66C-8899-4B2C-A7CE-947AC2B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FBC-6DE9-41A1-B8B9-02AC21F1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5E3-A899-4E6A-93F5-32C16D97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B35-93D4-4805-B0B9-B9FA28F2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8A7-A4DE-4A9B-8A77-743AA26D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C51-E45E-4600-8CEA-FD7ACDA5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E53D2-6F15-40CB-91E3-1E75F17ACE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