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72033"/>
        <c:axId val="18899238"/>
      </c:barChart>
      <c:catAx>
        <c:axId val="44872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99238"/>
        <c:crosses val="autoZero"/>
        <c:auto val="1"/>
        <c:lblAlgn val="ctr"/>
        <c:lblOffset val="100"/>
        <c:noMultiLvlLbl val="0"/>
      </c:catAx>
      <c:valAx>
        <c:axId val="18899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72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871-FFD1-45AD-9FFF-746BAAC0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7D9-A4CA-47F2-B01C-8526769E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1C9-07E9-4C94-9AD5-6414219C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D2E-E8C2-46CF-AC23-8F08745C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595-653E-48CA-821E-3BDA02C5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D21-BAC2-453F-91A3-BCB975C7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9EA-7FD5-44C5-B50B-29131D1F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1DB-613D-49FE-B0BE-CE3A695E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724-2271-4265-B841-6CC7D7E7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316-A867-4DDB-ADB5-9BB60D4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B70-23FB-4BE7-9AB3-EC6A179B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D96-04E4-4465-BF74-F5A4517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498C1-4A3E-4EAF-AF72-D02C779DA7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