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55682"/>
        <c:axId val="56733923"/>
      </c:barChart>
      <c:catAx>
        <c:axId val="99455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3923"/>
        <c:crosses val="autoZero"/>
        <c:auto val="1"/>
        <c:lblAlgn val="ctr"/>
        <c:lblOffset val="100"/>
        <c:noMultiLvlLbl val="0"/>
      </c:catAx>
      <c:valAx>
        <c:axId val="56733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5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E47-D17B-4437-B651-51079279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A5B-ACB6-47EB-AABE-C2B58207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A16-F043-400D-9348-FF7FEF75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8A8-7D2A-49BA-BD64-4F52B4FE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CBC-05AF-42A7-8C0B-6B8C59B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B6D-7DCF-4A68-9CB2-7F4C4968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869-6B44-49E7-8213-70092F4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3EF-B051-4980-823C-DBBFCCD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EF3-CA47-40E9-BDB8-21809A2D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3D9-7003-4EEC-889B-0B2500A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491-6536-4D7F-BB31-C449F6B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9D1-1AF0-49D8-BAA5-FEEA1CF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526E6-295E-4F65-8D49-F1B7895295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