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3326"/>
        <c:axId val="59373993"/>
      </c:barChart>
      <c:catAx>
        <c:axId val="74233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73993"/>
        <c:crosses val="autoZero"/>
        <c:auto val="1"/>
        <c:lblAlgn val="ctr"/>
        <c:lblOffset val="100"/>
        <c:noMultiLvlLbl val="0"/>
      </c:catAx>
      <c:valAx>
        <c:axId val="593739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33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5C4-0356-4F4C-B3F4-BC598DBA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DE4F-4E24-4A66-AAA7-941B1576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1440-F05E-4F98-A2FF-7798EABC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8501-C9B8-4E2E-9BFF-6C3FD9E9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0504-7090-479F-ABAB-84AEBED5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420-127A-4DBF-9CAE-EE0B3AAB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75F-9A89-4AA2-99FE-C017F584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21A0-EEDD-4A65-9A1E-3D1EE3FA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0698-B4BF-4939-83A4-2461C230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664-4CD2-47FE-BE7D-57714AF9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ED4D-AB4D-4682-9C2A-922ECF06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74E9-889D-4EE3-B89A-AD5366E2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0765A-21E7-4CAA-8EBE-3AB5321A58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