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880381"/>
        <c:axId val="33479586"/>
      </c:barChart>
      <c:catAx>
        <c:axId val="888803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79586"/>
        <c:crosses val="autoZero"/>
        <c:auto val="1"/>
        <c:lblAlgn val="ctr"/>
        <c:lblOffset val="100"/>
        <c:noMultiLvlLbl val="0"/>
      </c:catAx>
      <c:valAx>
        <c:axId val="334795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803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1E23-3519-49E8-A12D-FFFB703C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CA03-AF76-454A-AE95-969A3B62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BE56-44E0-4D8A-BE58-F0A53979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D000-32EE-4693-9C7A-227EEFC2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E44A-5E5D-4B08-8918-CA5B03BE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30E2-FC6C-443B-9B97-82B610FB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2404-EEBD-4E2E-9476-FEC05FA4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D635-F398-4D43-8551-70B19407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5EEE-DBDD-4FD1-AA51-1219F00D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EE4C-18F7-4173-AC54-8A6CEAC5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56F4-240D-448E-BDEC-24287DE8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62DC-8C34-4540-BEDE-0CC692DA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B3A4A-D5C5-40D1-AA42-B48F254E34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