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5877914"/>
        <c:axId val="11765294"/>
      </c:barChart>
      <c:catAx>
        <c:axId val="3587791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765294"/>
        <c:crosses val="autoZero"/>
        <c:auto val="1"/>
        <c:lblAlgn val="ctr"/>
        <c:lblOffset val="100"/>
        <c:noMultiLvlLbl val="0"/>
      </c:catAx>
      <c:valAx>
        <c:axId val="1176529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87791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2DFE9-8AF2-4054-92A0-12F863F95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67754-7922-4594-8CC2-786489889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B1BC4-CA14-49B1-884E-5CB148732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798C3-E8EB-4DEE-AAB8-B5D0BCD4A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F1646-8C65-4969-B1BD-EE0902E6C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2DEB6-757F-46E7-80D4-C94451686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7E508-30F8-4F2A-88FA-8EE9CFCC2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F9AF0-CE85-4F4B-8AEC-1DED67CAB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AC9C9-2386-40EE-BDE7-D04BA95FB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E759B-05B7-47F2-AFE1-9BD8A8BEA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1A89F-F7A7-41FB-B3F1-F7D3E4A57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67FC7-136F-4B27-841B-47C0D204D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0185A6-AECF-43FC-8623-5ED2D760A12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