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06503"/>
        <c:axId val="43905180"/>
      </c:barChart>
      <c:catAx>
        <c:axId val="48106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05180"/>
        <c:crosses val="autoZero"/>
        <c:auto val="1"/>
        <c:lblAlgn val="ctr"/>
        <c:lblOffset val="100"/>
        <c:noMultiLvlLbl val="0"/>
      </c:catAx>
      <c:valAx>
        <c:axId val="43905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06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863-01A5-4EB3-A3CF-1212708E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223-4D46-4715-9972-2ADFD2A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EA7-00BC-499A-BE0A-91EDE424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C5AF-4257-4A9E-8AC3-A16E945D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564-1722-4DB4-8DF3-D8FEAB43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839-CE98-46A3-B813-93D4314E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BA8-14B3-419B-8EA6-77746343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DBB-3D9F-4DF4-9F2A-0794BE06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869-48FB-470B-BD0F-7B46F472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FDE-453B-41C9-87A3-634C4F5C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B13-8E7E-4EDF-B213-174EA8D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AD2-E230-4B62-B02F-92D2845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30303-FF35-4D6E-B0C0-858974E603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