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35420"/>
        <c:axId val="78318661"/>
      </c:barChart>
      <c:catAx>
        <c:axId val="93735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8661"/>
        <c:crosses val="autoZero"/>
        <c:auto val="1"/>
        <c:lblAlgn val="ctr"/>
        <c:lblOffset val="100"/>
        <c:noMultiLvlLbl val="0"/>
      </c:catAx>
      <c:valAx>
        <c:axId val="78318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5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8FC-B26A-46A5-B75E-96106349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361-2FB1-4F4E-B59B-C9170C17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0DC-047E-4349-975B-08E5D79E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823-F04F-40E8-991D-2FC44E54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AF3-2A16-432F-B81A-A1D6B16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CF3-F13E-4853-96B2-1772CFA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C2A-0F6C-4B29-8B02-8871855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999-57A9-49F1-9510-E1661A8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D5D-749A-48FA-8CD5-13ACDB46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2CE-68B5-4B68-AFE9-D316423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8A8-3CE9-452F-837D-37CBA9F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E7A-161E-4D07-A993-C8C11DD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9FF7-D974-4C30-A6FC-5A07561B8D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