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9812"/>
        <c:axId val="13472217"/>
      </c:barChart>
      <c:catAx>
        <c:axId val="9159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72217"/>
        <c:crosses val="autoZero"/>
        <c:auto val="1"/>
        <c:lblAlgn val="ctr"/>
        <c:lblOffset val="100"/>
        <c:noMultiLvlLbl val="0"/>
      </c:catAx>
      <c:valAx>
        <c:axId val="13472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9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631-ED2D-4A3C-BADF-9FD2A0FA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F38-D0FF-4F6E-8454-7126269A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476-907C-43CD-BBAD-3652E749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1A4-A450-4298-8783-BB71AFF7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E83-DA2F-482F-BDE3-B7722FE6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318-1FC9-474A-BFAC-1E959C36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1CF-E7B1-4D3C-A88A-44C1CF17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EF5-89E0-4517-A9CE-C6BAF0FD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230-722B-4031-B123-CA3C9F6E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BE5-4122-4CAA-B399-EBDDE8CD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9DB-0DA5-437E-9C98-2D0F8C68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CB0-2373-44DF-BE69-BC1A954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D44F2-5D0D-45EB-9E3C-D393259F0A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