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3491"/>
        <c:axId val="15804499"/>
      </c:barChart>
      <c:catAx>
        <c:axId val="23103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4499"/>
        <c:crosses val="autoZero"/>
        <c:auto val="1"/>
        <c:lblAlgn val="ctr"/>
        <c:lblOffset val="100"/>
        <c:noMultiLvlLbl val="0"/>
      </c:catAx>
      <c:valAx>
        <c:axId val="15804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3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381-2C45-48C9-994D-21329973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EF4-01BD-433F-88FA-8125C975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A2F-020D-4CAD-836D-B99F4F3D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0CA-E6AE-4A23-8EBE-77EFC02C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097-3FD0-4939-A94A-6927996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09D-2141-4290-A8A7-B0E81433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546-A62C-4903-82FD-DC41A460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805-E77E-4D55-B3CA-5848A9EE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10E-7772-42A2-BC2A-7249A2E4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A25-E846-4F1B-9417-2DE0D61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C2F-88E1-42A9-958B-1EDC66DC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C74-16A4-496A-B5C7-5AD02AC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88D3D-B1C8-4ED4-A07B-F952CC253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