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97765"/>
        <c:axId val="91251481"/>
      </c:barChart>
      <c:catAx>
        <c:axId val="58897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51481"/>
        <c:crosses val="autoZero"/>
        <c:auto val="1"/>
        <c:lblAlgn val="ctr"/>
        <c:lblOffset val="100"/>
        <c:noMultiLvlLbl val="0"/>
      </c:catAx>
      <c:valAx>
        <c:axId val="91251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97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93C-9C89-40B3-87D1-DEC65D7C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7E1-4425-4C05-8ABB-7154D77A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1CD-C860-4187-8B8F-9D5FB4F7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02A-E838-48FF-8712-E7CC8164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4674-7C94-4FEC-A97A-9EA1AC9B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1CA-6E61-4C40-9A31-C5B0AA82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B8E-6E99-4CAA-9958-EB7340CF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F125-6E32-4849-9694-4E956B75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439-4CD7-48A4-8BDF-B4AE59EC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214-A6FF-4763-8880-B2FEA31D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846C-CCA0-496E-930E-9A92B66B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F4A-7FB6-4AF8-9DBF-833508F3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34D2E-1672-409E-9D4A-5CEEE6F1D7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