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69108"/>
        <c:axId val="52509265"/>
      </c:barChart>
      <c:catAx>
        <c:axId val="12769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9265"/>
        <c:crosses val="autoZero"/>
        <c:auto val="1"/>
        <c:lblAlgn val="ctr"/>
        <c:lblOffset val="100"/>
        <c:noMultiLvlLbl val="0"/>
      </c:catAx>
      <c:valAx>
        <c:axId val="52509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69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209-911B-45F2-ADF8-06FD6B95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993-4AD0-4EFC-8135-19E160F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3C8-34BD-403E-8F5E-D4D40C27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0F4-3B01-4B46-9E92-A4B75F80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F27-27D5-40AB-96FF-A13AEDB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13B-DE74-4A6F-A2F4-4C3CB64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E4D-086C-46EE-9220-C781530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AC0-C195-455A-B0C2-A28C47F3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01B-8CC3-480B-A083-C9318DA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B19-B31B-4BC7-8E53-9FA1CE89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20C-AFF9-4368-9686-0E15B00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03B-D2D7-4E3F-A7AE-ED16D9C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CB3FF-B7FB-4484-A27D-F12DB6B889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