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7001"/>
        <c:axId val="50651844"/>
      </c:barChart>
      <c:catAx>
        <c:axId val="7827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51844"/>
        <c:crosses val="autoZero"/>
        <c:auto val="1"/>
        <c:lblAlgn val="ctr"/>
        <c:lblOffset val="100"/>
        <c:noMultiLvlLbl val="0"/>
      </c:catAx>
      <c:valAx>
        <c:axId val="50651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7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275-5381-4484-AA60-F071F6E5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EBB-6D6F-420F-AFB8-70DCFBF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388-51E0-4240-98E3-00559E3B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259-B239-46FD-BD1B-28420EB9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740-3125-488F-9799-A962596A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B7B-90DC-4976-86D7-729F6781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80B-1470-4277-8073-D1CFA65A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4DE-ECA1-45F5-8C93-7214B6BF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554-AFC3-4D12-8917-209B96A1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FE7-F658-4141-8F19-6E3988B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33D-370C-4AB1-915E-E075ADDD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986-0375-4801-B99C-2EA82D21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C364E-F2A2-49D1-BE64-11D09E50FC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