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758669"/>
        <c:axId val="31198867"/>
      </c:barChart>
      <c:catAx>
        <c:axId val="827586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98867"/>
        <c:crosses val="autoZero"/>
        <c:auto val="1"/>
        <c:lblAlgn val="ctr"/>
        <c:lblOffset val="100"/>
        <c:noMultiLvlLbl val="0"/>
      </c:catAx>
      <c:valAx>
        <c:axId val="311988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586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D473-2C01-486B-853A-CEA8119D9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3A0F-60D0-419C-9A86-F37562D2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440A-103A-4DFA-AE82-E788D2AB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82EA-F549-43DB-B7B3-463F45172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1C0A-B6C4-4440-AA0C-997D674F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E89D-D52C-4121-9DAB-776A494F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66C9-0A60-4DC9-9F47-D7DCB12D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8236-9B35-496B-B648-F3F5A4DB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2FDB-22F0-442A-9B66-314B4BD3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6C8C-FEF1-4E00-AE44-9073B4BC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94FD-3744-426D-ACB2-9BEE1D8D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3343-0D74-4CC7-A60E-43333EDB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E7120-9DBE-4ABC-B2AD-E281D9ECE5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