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75840"/>
        <c:axId val="2568749"/>
      </c:barChart>
      <c:catAx>
        <c:axId val="98475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8749"/>
        <c:crosses val="autoZero"/>
        <c:auto val="1"/>
        <c:lblAlgn val="ctr"/>
        <c:lblOffset val="100"/>
        <c:noMultiLvlLbl val="0"/>
      </c:catAx>
      <c:valAx>
        <c:axId val="2568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5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BD8-DC08-4982-A8D5-A25E6DC5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386-1EE4-4D46-84CF-6C403515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7F6-1B03-4F2D-9C70-BD593F32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F30-E8AD-4100-8D81-8AB8E88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762-9119-4677-8E54-79FE4553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936-DA28-49B1-8F5B-364E526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34E-07E3-4566-9260-BE32976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049-96DC-47D5-A8DD-C070757A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FF9-A8DC-46E6-AFC2-9033D9A1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533-FD0F-4D7F-B302-DA50F39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E44-0D2D-440A-9702-6FDEB38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76E-EDF7-43A5-B9FD-F4B2DBA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B29B-17C6-4311-B7CC-E111A548E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