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82114"/>
        <c:axId val="32023300"/>
      </c:barChart>
      <c:catAx>
        <c:axId val="64282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3300"/>
        <c:crosses val="autoZero"/>
        <c:auto val="1"/>
        <c:lblAlgn val="ctr"/>
        <c:lblOffset val="100"/>
        <c:noMultiLvlLbl val="0"/>
      </c:catAx>
      <c:valAx>
        <c:axId val="32023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82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F0F-B619-4DCC-838B-3FBE9717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126-4D05-4F65-9418-C4A83C8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8BD-3BD6-4841-98A2-05915486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F5B-5D9E-4635-8715-3A7AFE83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6C4-3AEF-44EC-A034-FEA152E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EDE-331F-4EF6-8B4E-C17D0EC5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195-F5A5-4AB6-A27A-9CC23BB9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6CD-950B-41C1-AD1B-8E773C7D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79C-5A4B-4C50-9954-476C20D0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C20-A3EC-4DA9-97C9-C80E5CE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7A4-0241-4308-A5BE-3588D74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E53-793B-4B86-A8EC-4F9A2D5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A6461-E67B-45F0-B5DD-998BEC37A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