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97935"/>
        <c:axId val="54338833"/>
      </c:barChart>
      <c:catAx>
        <c:axId val="55497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8833"/>
        <c:crosses val="autoZero"/>
        <c:auto val="1"/>
        <c:lblAlgn val="ctr"/>
        <c:lblOffset val="100"/>
        <c:noMultiLvlLbl val="0"/>
      </c:catAx>
      <c:valAx>
        <c:axId val="54338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97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823-1E9A-4E45-B150-FB6F056F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65B-CEC3-4858-A50D-05A1100A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920-1B4A-4A31-8E9D-BC6A249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112-E5FE-4D2A-A41C-DBE2D963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13B-01E3-4E85-8B73-EAB6B0F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D4B-64FA-4A33-9F21-74F250C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2A7-7D41-4ED7-930C-44813E90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E9E-34B2-44FE-A951-312EE12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C8F-6D74-44CC-B2E7-7912E723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BC0-86D7-4B97-AAF9-0851506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3B1-02D6-4503-930F-992075A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A60-A27D-4B4D-AD55-F75751E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C6C0C-EE85-498F-9A18-D922168B5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