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849312"/>
        <c:axId val="43827110"/>
      </c:barChart>
      <c:catAx>
        <c:axId val="428493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27110"/>
        <c:crosses val="autoZero"/>
        <c:auto val="1"/>
        <c:lblAlgn val="ctr"/>
        <c:lblOffset val="100"/>
        <c:noMultiLvlLbl val="0"/>
      </c:catAx>
      <c:valAx>
        <c:axId val="438271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493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B467-3EAC-40E3-9D38-BAF2B8C5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D20C-DB9A-40AF-A8F0-D3C48109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1478-BD99-4157-B648-78460FF9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8300-A37A-4958-AD48-933C08F6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6AAE-F48D-4D72-B63F-8EDC3A4E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121B-85C0-4058-A1B1-D587BC7B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3D3E-D35D-47C9-85AA-19E3C2C6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47A0-C286-4465-8CAC-C79A6C94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80ED-CBED-4E63-92A4-3D670F23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454F-55CE-46D1-B79C-EE4E75AA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9724-D03F-4BA6-8AC9-22977350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41D9-2D13-48AB-81DA-B6DE6B21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5C1B3-C087-4863-871D-BDEC49058C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