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66812"/>
        <c:axId val="82460052"/>
      </c:barChart>
      <c:catAx>
        <c:axId val="39266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0052"/>
        <c:crosses val="autoZero"/>
        <c:auto val="1"/>
        <c:lblAlgn val="ctr"/>
        <c:lblOffset val="100"/>
        <c:noMultiLvlLbl val="0"/>
      </c:catAx>
      <c:valAx>
        <c:axId val="82460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66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E68-CC80-41E1-9ED7-3754DF8A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DB9-5DBD-46CC-ADE7-116CFF0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C06-5624-4747-83EA-76488E16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E7B-0165-4E7F-AA4E-C1D6EA4C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526-8011-4703-A0C8-F9DF1179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C1F-70BD-4B3C-9371-B5AC854E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5BA-A60C-46FD-92A5-5381C20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446-8C8A-4075-8521-EC9BADD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C38-CB03-4B6B-9D29-CDEE97C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18E-9AD7-48A4-BE1B-8085002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E67-4189-4026-A413-C2FB010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883-9D85-41CC-A498-CC7F1ED7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8769F-AE80-4965-81D7-94E7E8019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