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43409"/>
        <c:axId val="87644389"/>
      </c:barChart>
      <c:catAx>
        <c:axId val="52143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44389"/>
        <c:crosses val="autoZero"/>
        <c:auto val="1"/>
        <c:lblAlgn val="ctr"/>
        <c:lblOffset val="100"/>
        <c:noMultiLvlLbl val="0"/>
      </c:catAx>
      <c:valAx>
        <c:axId val="87644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43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0F3-E518-4B20-831C-44ABD570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C5B-1A6B-47DA-88A5-A52CFB34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EF6-E0DD-4B06-A55D-D8F730A6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A2D-2247-425E-BBD4-B6DD1071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2C0-B483-4B98-9DD5-BB9EC5EE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B15-37A4-40F5-B990-5D0138A5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67B-607C-46BD-B058-AEE1975B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EA9-E0AE-4F35-AFD9-11C9753C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EA1-01FF-4982-B0B0-4476EB72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571-760D-4D31-AB33-41F4C11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CB8-38B0-4C93-8C1C-23E6678A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7FA-020A-40E6-A1C2-832C62C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E4A98-4008-4C35-B324-7CEC110E77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