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782502"/>
        <c:axId val="2908666"/>
      </c:barChart>
      <c:catAx>
        <c:axId val="627825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08666"/>
        <c:crosses val="autoZero"/>
        <c:auto val="1"/>
        <c:lblAlgn val="ctr"/>
        <c:lblOffset val="100"/>
        <c:noMultiLvlLbl val="0"/>
      </c:catAx>
      <c:valAx>
        <c:axId val="29086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7825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BFF6-DBD8-4A0D-9493-52B03533C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858D-0935-4884-A9AE-B39061D7C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E72A-C1E5-4091-9529-B0DFC455E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625D-32D8-438A-BCC0-601CB96DC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3660-EF11-4611-BAC6-5E5A78D89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DDC5-623B-4B24-B12F-009F60214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109E-45A1-4065-9FCF-425A97618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9757-B011-45B3-B828-BD950C2C0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0C4E-D1DE-4151-86DC-AEAA2A069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BDFD-8E37-4A0B-9B62-49B44CE93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4808-0235-4ADE-9FCA-D8E368E6A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BB68-763D-45F1-82EC-985E27249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C6F257-0E88-49E8-B55B-D4A4082C6CB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