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88415"/>
        <c:axId val="73146946"/>
      </c:barChart>
      <c:catAx>
        <c:axId val="63588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46946"/>
        <c:crosses val="autoZero"/>
        <c:auto val="1"/>
        <c:lblAlgn val="ctr"/>
        <c:lblOffset val="100"/>
        <c:noMultiLvlLbl val="0"/>
      </c:catAx>
      <c:valAx>
        <c:axId val="73146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8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559-5FB2-4E7A-9A0A-A24240C6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E8A-8303-46B3-9288-79C789FE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D29-A0C4-4D07-862C-A9CFB40B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49E-59FB-4445-96DE-86A02D33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E25-2716-457E-BB53-AB55892E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D65-1BBE-46A3-A966-19F7E2C9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7C7-A3C7-4D3C-B7CB-7C5F0C7A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319-E0A7-4EF1-A48C-96C2DA07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D83-C7C5-4AF9-A404-6831FD0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B7E-99A4-44F6-B195-27E1F81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937-EC9A-4C3C-9AC3-B90E2D2F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223-3FA0-4AE0-AB2B-D6491F6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05DA7-962E-4894-B4B5-2EB2CE3972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