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19678"/>
        <c:axId val="83173032"/>
      </c:barChart>
      <c:catAx>
        <c:axId val="79319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73032"/>
        <c:crosses val="autoZero"/>
        <c:auto val="1"/>
        <c:lblAlgn val="ctr"/>
        <c:lblOffset val="100"/>
        <c:noMultiLvlLbl val="0"/>
      </c:catAx>
      <c:valAx>
        <c:axId val="83173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19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2CE-C057-404A-A2F0-233A79D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E45-169F-4F65-8BA2-F7E30CC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4FF-08F3-432E-A4E8-272A680A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EC1-EC3B-4D59-B660-166043B5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5B4-0167-4354-A66C-D9C1BF8B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914-0621-47EB-9408-574D964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BBB-DEBF-4CB1-9CBC-440A794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D88-52C6-4CAD-9DD6-A07F8BA0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911-14DE-4BA8-85B4-742018C4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279-CC45-468E-B4D5-C7D5F90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085-791B-4E19-8E0C-8DE4CE9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41C-C173-4042-98E6-91E5B2B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D2B1B-1134-4596-A9C9-78EAEA0E88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