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445023"/>
        <c:axId val="88742747"/>
      </c:barChart>
      <c:catAx>
        <c:axId val="934450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42747"/>
        <c:crosses val="autoZero"/>
        <c:auto val="1"/>
        <c:lblAlgn val="ctr"/>
        <c:lblOffset val="100"/>
        <c:noMultiLvlLbl val="0"/>
      </c:catAx>
      <c:valAx>
        <c:axId val="887427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450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4A07-B589-4B33-94CE-C768EAC5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E853-EF88-4146-82CF-66797995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5CF9-4245-4780-9162-71918671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4B6D-FCCF-4336-9D95-05EE5B9C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F4AD-9614-4E52-BD14-8A00EEC9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5483-3BE3-4653-ABA0-A252C515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E887-AF04-4D37-BEE9-0E91826C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0B7D-7AB7-47AD-BC5E-B5C6A907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41A6-006C-4B86-858F-E395AB02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AFD6-CE84-4EEA-8092-641F5214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B79E-7A2E-4D42-B0B3-D8DAF242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9D5D-B402-4986-A80A-5D479CB8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25291-281D-4274-8E3A-3E3BA6CDA4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