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49110"/>
        <c:axId val="59196441"/>
      </c:barChart>
      <c:catAx>
        <c:axId val="79949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6441"/>
        <c:crosses val="autoZero"/>
        <c:auto val="1"/>
        <c:lblAlgn val="ctr"/>
        <c:lblOffset val="100"/>
        <c:noMultiLvlLbl val="0"/>
      </c:catAx>
      <c:valAx>
        <c:axId val="59196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49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994-CD83-4E11-B0F6-88C3925F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4D7-669A-4C93-AA10-599B5FE6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19B-E544-4F92-9197-00931C89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5B2-0537-4159-A21F-026D6702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813-CB31-4F07-A957-A1A11F87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57B-6ED8-4CD0-8F51-88103B4F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ECF-45EB-4AA5-AC25-95EBF291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F56-8C98-490C-BCB7-5811C95B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517-6554-4654-BEC0-13D881CD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3C3-D9D8-48EE-9A2C-3CC1678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256-6E9E-453A-AFC7-8B959706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D1F-FDAD-442E-A1FF-40822BC2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D12C9-BE68-449A-A59E-201F0CF9BE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