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91474"/>
        <c:axId val="21415767"/>
      </c:barChart>
      <c:catAx>
        <c:axId val="26391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15767"/>
        <c:crosses val="autoZero"/>
        <c:auto val="1"/>
        <c:lblAlgn val="ctr"/>
        <c:lblOffset val="100"/>
        <c:noMultiLvlLbl val="0"/>
      </c:catAx>
      <c:valAx>
        <c:axId val="21415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91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010-30E5-4CBF-8FF2-0332AE70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BC5-E9B7-4C91-AB12-D0416C6A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70D-3854-434F-AE7F-60FF698F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410-961A-4AEC-B3E4-80FC411D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03A-5E19-429D-8AF2-15F08CA5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E2D-F423-4C17-BA5D-6FCFEF46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752-5E25-40B0-A01B-44D40C21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439-8F22-429A-B26A-5A7121AC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81A-0387-4634-8F35-52290352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319-1742-4870-AD0F-2A4953ED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060-204D-4ED5-9BC4-2BAF19D0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71B-3453-4B61-94B3-85B9EDD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7702F-412D-4E49-BCBF-9FD73B9EE5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