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36833"/>
        <c:axId val="40546223"/>
      </c:barChart>
      <c:catAx>
        <c:axId val="46536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6223"/>
        <c:crosses val="autoZero"/>
        <c:auto val="1"/>
        <c:lblAlgn val="ctr"/>
        <c:lblOffset val="100"/>
        <c:noMultiLvlLbl val="0"/>
      </c:catAx>
      <c:valAx>
        <c:axId val="40546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36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A7D-A494-423E-9758-C8D90526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FC2-DE50-4604-9280-353C66E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CA8-2D74-4609-9250-14A91D29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912-1EB1-40CB-8413-FD4E6094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E2D-C721-4AE5-A40E-F04C09C6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2AB-0598-4CB7-A4C0-5D0705A3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EE8-F7CC-484E-9FF3-642D64F1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725-4674-4EDC-8499-CA8B0C6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133-DCFF-4ACB-B4F5-D686860C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24C-B3D0-4E55-8D3B-ECEFC49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1B5-EF21-48C1-8FAA-20CA8BA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DD2-9CE8-4183-8407-1FCC9DB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C6269-CD68-4B3A-9193-D7120F96F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