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771504"/>
        <c:axId val="51969013"/>
      </c:barChart>
      <c:catAx>
        <c:axId val="937715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969013"/>
        <c:crosses val="autoZero"/>
        <c:auto val="1"/>
        <c:lblAlgn val="ctr"/>
        <c:lblOffset val="100"/>
        <c:noMultiLvlLbl val="0"/>
      </c:catAx>
      <c:valAx>
        <c:axId val="519690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715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2DFC-C713-487B-BDA8-62759FC9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8EF0-0C23-4B50-8C02-0DD5B2D0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7369-C0BA-496E-AF87-8EC7F4A73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9922-627F-4686-A291-8D0F7B598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DCD9-1C9B-4300-9532-D09EC0F1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E859-889A-45EA-A7D7-28DF4A3E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AADF-5993-4ED0-BF8E-6528AFA5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19E8-7FB1-464A-A968-462CF2BA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7070-D63C-4163-8CB2-72E8E343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8820-E768-497F-B91D-7C7DCA98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DC3F-C987-4923-AA87-39287A2F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D3E7-409B-4BBB-B6FF-C8250DB1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A514A-2B45-4A12-AE2F-E9B707E14E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