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20376"/>
        <c:axId val="60306319"/>
      </c:barChart>
      <c:catAx>
        <c:axId val="56620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06319"/>
        <c:crosses val="autoZero"/>
        <c:auto val="1"/>
        <c:lblAlgn val="ctr"/>
        <c:lblOffset val="100"/>
        <c:noMultiLvlLbl val="0"/>
      </c:catAx>
      <c:valAx>
        <c:axId val="60306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20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48F-AED9-466C-8BCE-BE1FDBC3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FA6-9AF6-43FD-83AA-DF96132A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2F0-A573-4BC3-B17F-4C4AF6C2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07E-538E-449F-B0A3-81FF3045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55D-B321-4DB4-B1CB-193CB926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411-ECE1-42D6-9127-2DCF9663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071-8058-44AA-8917-A48A14A1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237-BDB8-4796-89D1-D05A3234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C21-F632-4C83-810E-E675AC6D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9F2-0BD7-4EC8-983A-B2BBD86F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EFD-FFFD-45AA-B8B9-3360D15D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AFC-A7C4-43A9-9662-ADA22A3F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1899A-659C-401A-BEF2-0BBE113D91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