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5138"/>
        <c:axId val="28099744"/>
      </c:barChart>
      <c:catAx>
        <c:axId val="1905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99744"/>
        <c:crosses val="autoZero"/>
        <c:auto val="1"/>
        <c:lblAlgn val="ctr"/>
        <c:lblOffset val="100"/>
        <c:noMultiLvlLbl val="0"/>
      </c:catAx>
      <c:valAx>
        <c:axId val="28099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5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273-7735-4AAA-AC6B-20F5DD53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819-E805-4298-A05E-73F435F2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FDE-0F68-4DE8-80CB-379248FB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AC6-E6AF-443C-B4A5-5CB06C8D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45B-9F9C-48FA-9BDA-01B400AA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5EE-2132-4DB6-AA13-34BAB78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9B6-DF3A-4AF7-8D03-7C7C0E0D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681-F271-4B60-812D-A4B25B92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08E-E7E8-4825-9FA3-5FE59F48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273-F97E-4F75-ABA9-B71C059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F73-4806-4F2A-B625-098C495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9B3-A997-4841-A7B1-8BFF2C3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95DF0-966C-4207-8606-66C41F604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