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90293"/>
        <c:axId val="82431942"/>
      </c:barChart>
      <c:catAx>
        <c:axId val="70690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1942"/>
        <c:crosses val="autoZero"/>
        <c:auto val="1"/>
        <c:lblAlgn val="ctr"/>
        <c:lblOffset val="100"/>
        <c:noMultiLvlLbl val="0"/>
      </c:catAx>
      <c:valAx>
        <c:axId val="82431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90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5DC-0D98-4924-8D0C-A0553BBA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42E-29C8-465E-93E3-BA61DE25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24F-7065-4681-85A3-EA36A72A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9A3-B90E-4E32-9B93-BA46A15A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EBE-C78F-400E-B85A-9F70BB9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BBB-005A-42C1-86EF-5B619BC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90B-733F-4658-ACD6-EEDCFBB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F94-2252-401E-9A36-8FDE100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ED8-3FDA-4BB5-8546-056BBB3C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A32-04E5-4556-A4F4-C3A0FD4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6FE-E02A-46FE-9509-8B46F83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FF8-EC8B-4DFA-B9AA-1F38B12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2B1A-10EB-40A8-908F-9D020AB6D5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