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75798"/>
        <c:axId val="99749379"/>
      </c:barChart>
      <c:catAx>
        <c:axId val="63675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49379"/>
        <c:crosses val="autoZero"/>
        <c:auto val="1"/>
        <c:lblAlgn val="ctr"/>
        <c:lblOffset val="100"/>
        <c:noMultiLvlLbl val="0"/>
      </c:catAx>
      <c:valAx>
        <c:axId val="99749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75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535-7DF7-49EF-B3C4-9ACAAD15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283-F9B8-4F92-931C-D450921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7A3-3183-49A7-8116-04EA0A52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D5E-FF05-40E8-A5F5-8A2146B1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A93-7323-40AF-BC05-8C112767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B25-CC58-4465-ADD8-87CE69B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129-A4E1-487E-AF4E-A0ADF1EB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264-85F1-4F39-B327-A0E3A3A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3B0-4A51-4B3A-9DEA-E8CC85B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DA5-6FFB-4A65-AED5-4154983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922-3A06-4C1E-91CD-3F04F2A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4D1-279F-4CF6-84E3-206D111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90C0C-0A4B-45C3-ADF3-77DC279AAC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