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37555"/>
        <c:axId val="11392715"/>
      </c:barChart>
      <c:catAx>
        <c:axId val="5123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92715"/>
        <c:crosses val="autoZero"/>
        <c:auto val="1"/>
        <c:lblAlgn val="ctr"/>
        <c:lblOffset val="100"/>
        <c:noMultiLvlLbl val="0"/>
      </c:catAx>
      <c:valAx>
        <c:axId val="1139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895-731E-4294-934F-34961945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ABB-70B1-4F10-82E1-6EB4BBC9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C1B-713B-4424-A902-AC9AA5F3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F83-7D56-4058-AA3A-59EFEACB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EE4-07B7-409E-829C-016804E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39D-40A6-43A8-AB6B-9EDEDA2A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931-6764-46CC-86AE-42ABCA4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C37-39D6-4EE2-9F14-B6463030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870-BC37-41CA-948E-DA0ACE5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705-9244-473D-86A3-4075B32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2FA-5938-4C83-A113-A0D9ECA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648-7035-4FB7-AD36-44AE2D7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3E62C-D635-4FF8-99F3-C5A1B4461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