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25832"/>
        <c:axId val="96035071"/>
      </c:barChart>
      <c:catAx>
        <c:axId val="80725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35071"/>
        <c:crosses val="autoZero"/>
        <c:auto val="1"/>
        <c:lblAlgn val="ctr"/>
        <c:lblOffset val="100"/>
        <c:noMultiLvlLbl val="0"/>
      </c:catAx>
      <c:valAx>
        <c:axId val="96035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25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D62-2F1C-4A55-BAFB-2A8F8740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35D-F13D-4475-BC27-4AA2230D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126-5A62-4A23-A6D6-C73B4231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2ED-BB4D-45E3-9694-8828A24E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81C-8B10-405A-92FE-8D697435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E8C-8FCB-4E04-B1C0-4CA6DCF6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90A-3D9B-4DB8-BD18-B90C4CD3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E1B-2FF4-4D33-B44B-5CA62DD4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DF6-D711-46EE-85B8-560F6FF6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7C2-9851-476E-BE15-4DFE7274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71E-9C05-4942-B147-0F60C08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B39-74DB-4CC8-94AE-E601E58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44E95-35B6-40A1-94EE-942923DA9D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